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870-C1D0-4118-86BF-69098115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5DD-DD49-4561-8568-747A8013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E08-CC5E-4E52-8238-2C9869FA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F60-8856-47B2-A5EB-AF89D3E8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83C-8886-45F1-8DB7-95037B84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543-721E-4471-909D-FCB15865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460-94CB-4E52-91B6-9F8446D4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29E-A583-4011-A67C-D6E4EAB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A28-846D-48A8-8B2C-298370B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9AA-D335-438F-84F2-ABFA5A6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350-EB98-44EE-B47D-18AB9EA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000-C754-46B3-9B2E-AB2BC56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4B491-8E7E-4571-B46B-BAB0584C69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B2599-154B-45F6-B3C8-C8BB39581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How many daughter cells does mitosis produce?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What type of daughter cells does meiosis produce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Calibri"/>
              </a:rPr>
              <a:t>What is the function of meiosis?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f a beavercell has 40 chromosomes before it divides, how many chromosomes will a daughter cell have after meiosi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89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ow has 60 chromosomes.  A scientist observes a cow cell go through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iosi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daughter cells will the scientist s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hromosomes did the parent cell ha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hromosomes will a daughter cell hav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3.9 Independent Practi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do we call a tightly coiled piece of DNA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Before a cell divides, what do we call the original cell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After a cell divides, what do we call the two new cells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many daughter cells does mitosis produce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f a fruit fly has 8 chromosomes before it divides, how many chromosomes will a daughter cell have after mitosis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What type of daughter cells does mitosis produce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What is the function of mitosis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3.9 Meiosis Class Note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Meiosis produces 4 daughter cells which have only half the chromosomes as their parent cell.  These daughter cells are an organism’s sex cells (sperm and eggs)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How many daughter cells does meiosis produ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Are the daughter cells produced in meiosis identical to their parent cel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What type of daughter cells does meiosis produ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Calibri"/>
              </a:rPr>
              <a:t>The purpose of meiosis is to allow an organism to reproduce sexually and to allow genetic variation.  Genetic variation means that organisms in a population have differences in their DNA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1. What is the purpose of meios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2. What is “the differences in DNA between cells and organisms” called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What does meiosis produce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08:59Z</dcterms:created>
  <dc:creator>Caroline Roth</dc:creator>
  <dc:description/>
  <dc:language>en-US</dc:language>
  <cp:lastModifiedBy>Caroline Roth</cp:lastModifiedBy>
  <dcterms:modified xsi:type="dcterms:W3CDTF">2011-05-24T01:38:02Z</dcterms:modified>
  <cp:revision>4</cp:revision>
  <dc:subject/>
  <dc:title>Bellringer</dc:title>
</cp:coreProperties>
</file>